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6946-1DC9-4B81-A3F6-359AD7106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623B-A879-4E48-968B-655D2F3A0BB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87B-1010-4BFB-80DF-2197E8C3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5E5-2AAD-4B99-94AF-97CB26CB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05F-50F0-4734-A8FC-1DB13CAF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8D4-B11E-4E5E-A026-61AACEF8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846E-DE7A-45A8-B8AB-54901F04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A725-AD31-4380-83A0-D045A2E4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80E4-30B0-4D89-8B72-94B53DBE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443C-BA75-4A12-8B89-312ED90E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DD8A-F2E1-4867-8F3E-D115A292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01D4-4289-4A00-801E-4FE7B5C9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77BD-DDD9-461C-98B0-081C16A0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39F-4499-44AD-B343-67E94B5D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7736-15E3-4C75-9180-BAB10DD9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7141-9B50-461F-8ECB-59500CE0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9399-2014-4901-AEF6-E4115DC1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13AE-E02F-42BB-863F-3C001A4C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39E1-33F6-4456-9105-D0B36471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D9CD-3A01-4362-9A00-F4F04080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2077-F573-43D7-B7DB-293CF39A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6800-597A-4033-B355-D6E942A4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3AF61-F022-493B-9B0A-5F40C154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56B8-E5BD-4648-B453-CBA01639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CAC-041C-40C2-92A0-2363EA3D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13B2-10B6-4DBE-9619-0591ED2A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D9C3-54B3-4F3F-9D0D-3A5E4575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1B10-3B5D-4E8C-9538-6B8AB2DF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F5273-57DB-42F0-9E61-C463925E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52CB-6491-49DB-8064-A761AADD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9168C-53A1-416D-9F8D-BD3FF9D3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F7EC-46F7-418F-B21F-8DE6AA60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06456-5EF1-4783-B468-07A213E7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8A128-9131-465B-9FB0-9A75FFB7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9BE9-2C98-44E3-B561-D0C7470C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19C-82ED-4740-B195-7B835A7D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023E3-E35D-4749-921B-A91ADD25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DA926-304D-47A6-AADB-5B1B8F74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D8AD-6F83-41BA-98DB-657B2204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3709-9A8E-4F43-9819-CCD7149D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6B794-C31B-4999-BD7E-6352AF21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AF718-CD67-4CB6-9691-975E8DB0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12F56-4ACB-449B-9B92-DBFFEDDC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DFFA8-C2F0-4BA6-8D7A-6C128107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4D872-89C6-42D3-B1BA-0A68E0BF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6B222-AC87-4A0D-A480-F8C0086C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845-ECE5-4FB3-B0FF-E85A4D2F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4957D-9A57-4E3E-939F-6767D607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BE0A9-7FCE-4610-A22F-8200206E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D8915-CA67-44B8-A091-6BADA0E9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528A6-8CA2-42D0-943C-0D35F8D5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804AA-1A99-4B13-A103-8420E2CB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304EF-846F-4835-B1C0-CCFF1280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17CAC-D00A-4EBC-80EE-950BA1C7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FBFAD-6C21-4D60-B0B8-11BF29A3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D418C-ED0D-4592-9C03-2D6224DC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543CC-B430-4E8F-9229-73CCD101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B4C-F9D4-4E6F-8C8C-A05AEC27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0246-FB34-47D5-8082-ABBDF004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90560-8ADC-4625-84E4-A2C51F75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1A5BB-CA6C-4896-9CB5-0DA5229D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45C11-3246-436D-BF9A-DEB9C227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BA9CE-9483-4929-9103-078CD914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99BD0-370C-41C3-800D-0285D27B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567E0-F48D-4518-902F-486D8F5A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D8C34-8B00-4876-B271-0E4E47B1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1C131-336C-428B-8F1B-0A979E2D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8CA2E-2665-476A-88B8-104B44DE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3CF-409E-4EE1-AD49-2182FCEB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E0521-652E-4B8E-90D6-A87A9AB9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C6CB5-AF68-428F-A540-BEA2D242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6B5BA-3737-41E2-A562-E8B0E278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C426B-C3ED-41F2-AAC9-C3DEE558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9A8E9-00CE-4948-9484-5616EB44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DBF0B-2E72-446E-82CB-62BBDE24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A16A5-5CAC-458D-A89A-4A82B6FA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68583-851E-4ACF-8A83-FFE09514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57A35-3BF5-4C63-9FCE-72B8E573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A91D3-BB73-4366-9867-BC6E6DE8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CF6-3ADE-4B36-B50B-26F2C59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D73D6-D7C9-4CAA-A784-B800001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74034-803D-4DF5-9FE6-E2DD9049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5A27B-D9CA-43F7-8621-4D114BD8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1EE21-C522-4010-8BCE-F9BD4A21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3DF05-15BE-4EA9-854C-CB65D6EE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BB4-BFC0-4369-9015-2FA53DE3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8A07-B425-411D-9EC3-20369D010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F472-2C42-4BD1-9929-CE62FA508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2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03F3-F323-403D-B31F-125E420624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D5B3-3B31-4084-A63E-19F125DF31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4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5AFE-0164-4CE0-A229-01B92E878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1DF8-AAA1-49A2-A4BF-B0C0A48B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5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5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6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3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4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1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A468-87AD-47B5-BEEC-19C0880E171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SCIENT ENGINEERING COLLEGE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PARTMENT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ORMATION TECHN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-Tech ¾   SEM I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ED traffic signals which controls traffic as well as speed of the vehicles using sensor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68" name="Picture 4" descr="LED traffic lights in Örnsköldsvik, Sweden."/>
          <p:cNvPicPr/>
          <p:nvPr/>
        </p:nvPicPr>
        <p:blipFill>
          <a:blip r:embed="rId1"/>
          <a:stretch/>
        </p:blipFill>
        <p:spPr>
          <a:xfrm>
            <a:off x="838080" y="27432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99"/>
                </a:solidFill>
                <a:latin typeface="Script MT Bold"/>
              </a:rPr>
              <a:t>   </a:t>
            </a:r>
            <a:r>
              <a:rPr b="0" i="1" lang="en-US" sz="4700" spc="-1" strike="noStrike">
                <a:solidFill>
                  <a:srgbClr val="000099"/>
                </a:solidFill>
                <a:latin typeface="Script MT Bold"/>
              </a:rPr>
              <a:t>Vote Of Thanks</a:t>
            </a:r>
            <a:br>
              <a:rPr sz="3500"/>
            </a:br>
            <a:endParaRPr b="1" lang="en-US" sz="4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aiandra GD"/>
              </a:rPr>
              <a:t>We are very much thankful to our guide and the supporting staff members for helping us to complete our project that’s free of error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aiandra GD"/>
              </a:rPr>
              <a:t>We have come out with immense satisfaction that helped us to discover something special in us which would not have been possible without this projec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WordArt 5"/>
          <p:cNvSpPr txBox="1"/>
          <p:nvPr/>
        </p:nvSpPr>
        <p:spPr>
          <a:xfrm>
            <a:off x="1295280" y="1981080"/>
            <a:ext cx="6324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Pristina"/>
              </a:rPr>
              <a:t>Thank U :-)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Pristina"/>
              <a:ea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ff"/>
                </a:solidFill>
                <a:latin typeface="Copperplate Gothic Bold"/>
              </a:rPr>
              <a:t>TRAFFIC  SIGNAL  MANAGEMEN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ffic Signal Management is the design of  a traffic signal which controls the traff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ject “Traffic Signal Management” facilitates  easy control of heavy traffic which uses three lights :Red, Yellow and Gre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lights used to indicate the signaling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flashing RED light indicates ST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ELLOW indicates BE READY and last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REEN  indicates G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56" name="Picture 4" descr="A demonstration of a traffic light, showing Red, for stop Yellow, (stop ahead) for slow down  and Green for go."/>
          <p:cNvPicPr/>
          <p:nvPr/>
        </p:nvPicPr>
        <p:blipFill>
          <a:blip r:embed="rId1"/>
          <a:stretch/>
        </p:blipFill>
        <p:spPr>
          <a:xfrm>
            <a:off x="1676520" y="3200400"/>
            <a:ext cx="5181480" cy="327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s changes automatically at regular intervals of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task is done by using separate variables for each l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ly, RED light appears for 21 seconds ie, it appears from count equal to 25 to 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when count becomes 3 RED automatically changes to YELLOW  and it glows for 4 seconds i.e, up to count becomes 0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en count becomes 0,light changes automatically to GREEN and it glows for 25 second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s process is continued for easy flow of traffi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Pristina"/>
              </a:rPr>
              <a:t>Green signal</a:t>
            </a:r>
            <a:endParaRPr b="1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61" name="Picture 4" descr="green"/>
          <p:cNvPicPr/>
          <p:nvPr/>
        </p:nvPicPr>
        <p:blipFill>
          <a:blip r:embed="rId1"/>
          <a:stretch/>
        </p:blipFill>
        <p:spPr>
          <a:xfrm>
            <a:off x="1219320" y="1170000"/>
            <a:ext cx="7238880" cy="568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S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main crux of this project is to reduce the traffic jams at heavy traffic junction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ights glowing at regular intervals of time facilitates easy flow and control of the traffi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dvantage for people crossing roads through pedestrian crossing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e can also improve this project by adding additional features lik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destrian crossing light with loudspeaker for blin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66" name="Picture 6" descr="Pedestrian crossing light with loudspeaker for the blind."/>
          <p:cNvPicPr/>
          <p:nvPr/>
        </p:nvPicPr>
        <p:blipFill>
          <a:blip r:embed="rId1"/>
          <a:stretch/>
        </p:blipFill>
        <p:spPr>
          <a:xfrm>
            <a:off x="4572000" y="4572000"/>
            <a:ext cx="2857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4:10:07Z</dcterms:created>
  <dc:creator>rakesh</dc:creator>
  <dc:description/>
  <dc:language>en-US</dc:language>
  <cp:lastModifiedBy>Brigade</cp:lastModifiedBy>
  <dcterms:modified xsi:type="dcterms:W3CDTF">2011-09-05T18:54:01Z</dcterms:modified>
  <cp:revision>33</cp:revision>
  <dc:subject/>
  <dc:title>MVSR ENGINEERING COLLEGE</dc:title>
</cp:coreProperties>
</file>