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94D-0B4C-40C0-A673-ADE90F5C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B85E-8E83-485C-9813-08BBCB871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8DF1-B3BA-4CC5-8501-606C1157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we check {A, C} join {C, E}? Because for ACE to appear, AC and AE must also appear. It is easier to compare with itemsets with the same prefi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5F2-E618-45AD-A315-6C680C83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587-4618-47E4-BC94-50753ED2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233-35F5-4C71-ABF4-7253B580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149-6AD2-4A0D-8F5D-0C2F8CCB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6C50-CC3F-43FD-BA67-6D4E019D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2D46-BD10-49C6-835B-94CA2C46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B661-2DF5-4A63-A401-164D0EE0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18D3-EED9-4934-ADF0-EAD5F15E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46C0-ED09-471E-B3EF-BE46A8CE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FAA8-18DB-4F1C-8A67-0BAA5850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159A-C0F7-43A4-AA4C-8444929C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036-6A8A-4DA6-B7FC-0CFCCE5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5284-C93B-4246-99DF-CD8CE69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980D-7E95-4649-BA76-ADBF80E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2474-8922-4C4F-9F51-3DB88126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EA37-A895-477F-883F-BAC19C19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6017-59D1-423C-89F7-30D0BAA8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BB1-0921-45BE-810C-974F0EA9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B00-C45E-4DD3-ACB5-F0ABFDB0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96A-A8B2-4BF8-B737-B359910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FEC-F600-44F7-82AE-D5D3F7E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900-1EF1-41CA-B6A8-593102C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F6E-21BB-444F-B1D0-C2622D7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C5C-DBB9-4BA3-A366-F6D2803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2EC-DC94-413B-AD03-751293013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9007-8B2E-4F70-B81C-08AD5CF213A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384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ssociation Rule Mining for Suspicious Email Detection: A Data Mining Approach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476360" y="522936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03280" y="4581360"/>
            <a:ext cx="64008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4"/>
          <p:cNvPicPr/>
          <p:nvPr/>
        </p:nvPicPr>
        <p:blipFill>
          <a:blip r:embed="rId1"/>
          <a:stretch/>
        </p:blipFill>
        <p:spPr>
          <a:xfrm>
            <a:off x="826920" y="1773360"/>
            <a:ext cx="80010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 Building the associative Classifi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1 Email Classification Proc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f6"/>
          <p:cNvPicPr/>
          <p:nvPr/>
        </p:nvPicPr>
        <p:blipFill>
          <a:blip r:embed="rId1"/>
          <a:stretch/>
        </p:blipFill>
        <p:spPr>
          <a:xfrm>
            <a:off x="755640" y="1681200"/>
            <a:ext cx="5904000" cy="517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t2"/>
          <p:cNvPicPr/>
          <p:nvPr/>
        </p:nvPicPr>
        <p:blipFill>
          <a:blip r:embed="rId2"/>
          <a:stretch/>
        </p:blipFill>
        <p:spPr>
          <a:xfrm>
            <a:off x="4643280" y="981000"/>
            <a:ext cx="33912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2.2 Apriori Algorithm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ahoma"/>
              </a:rPr>
              <a:t>for Suspicious Email Detection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ociation R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ll the rul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minimum support and conf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 transaction contain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fid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 transaction having X also contain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 minsup = 50%, minconf = 5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q. Pat.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er:3, Nuts:3, Diaper:4, Eggs:3, {Beer, Diaper}: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492120" y="3927600"/>
            <a:ext cx="1643040" cy="1168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1346040" y="3927600"/>
            <a:ext cx="1643400" cy="1298520"/>
          </a:xfrm>
          <a:prstGeom prst="ellipse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753840" y="4511520"/>
            <a:ext cx="198360" cy="649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2727360" y="4057200"/>
            <a:ext cx="196920" cy="584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8"/>
          <p:cNvSpPr/>
          <p:nvPr/>
        </p:nvSpPr>
        <p:spPr>
          <a:xfrm flipV="1">
            <a:off x="1938240" y="3731760"/>
            <a:ext cx="0" cy="779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463840" y="3537000"/>
            <a:ext cx="10526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uys diap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143000" y="3473280"/>
            <a:ext cx="10666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a18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a180"/>
                </a:solidFill>
                <a:latin typeface="Times New Roman"/>
              </a:rPr>
              <a:t>buys bo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95000" y="5095800"/>
            <a:ext cx="1037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buys b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228600" y="3473280"/>
            <a:ext cx="3352680" cy="22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689040" y="2768760"/>
            <a:ext cx="2892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ts, Eggs, Mil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28600" y="2768760"/>
            <a:ext cx="460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89040" y="3054240"/>
            <a:ext cx="2892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ts, Coffee, Diaper, Eggs, Mi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28600" y="3054240"/>
            <a:ext cx="460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89040" y="2457360"/>
            <a:ext cx="2892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Diaper, Eg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28600" y="2457360"/>
            <a:ext cx="4604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689040" y="2146320"/>
            <a:ext cx="2892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Coffee, Diap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228600" y="2146320"/>
            <a:ext cx="46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689040" y="1835280"/>
            <a:ext cx="28922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er, Nuts, Diap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228600" y="1835280"/>
            <a:ext cx="46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689040" y="1523880"/>
            <a:ext cx="2892240" cy="31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tems bou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228600" y="1523880"/>
            <a:ext cx="460440" cy="3114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T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28600" y="1523880"/>
            <a:ext cx="3352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228600" y="18352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228600" y="21463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228600" y="245736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29"/>
          <p:cNvSpPr/>
          <p:nvPr/>
        </p:nvSpPr>
        <p:spPr>
          <a:xfrm>
            <a:off x="250920" y="34290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30"/>
          <p:cNvSpPr/>
          <p:nvPr/>
        </p:nvSpPr>
        <p:spPr>
          <a:xfrm>
            <a:off x="228600" y="3340080"/>
            <a:ext cx="3352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31"/>
          <p:cNvSpPr/>
          <p:nvPr/>
        </p:nvSpPr>
        <p:spPr>
          <a:xfrm>
            <a:off x="228600" y="1523880"/>
            <a:ext cx="0" cy="181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689040" y="1523880"/>
            <a:ext cx="0" cy="181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3581280" y="1523880"/>
            <a:ext cx="0" cy="1816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34"/>
          <p:cNvSpPr/>
          <p:nvPr/>
        </p:nvSpPr>
        <p:spPr>
          <a:xfrm>
            <a:off x="228600" y="305424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Apriori Algorithm</a:t>
            </a:r>
            <a:r>
              <a:rPr b="0" lang="en-US" sz="3600" spc="-1" strike="noStrike">
                <a:solidFill>
                  <a:srgbClr val="333399"/>
                </a:solidFill>
                <a:latin typeface="Berlin Sans FB Demi"/>
              </a:rPr>
              <a:t>—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 Exampl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80" y="13705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T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187000" y="227232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297160" y="2719440"/>
            <a:ext cx="83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767320" y="16945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55360" y="15375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09960" y="37026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737440" y="3305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024960" y="3356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5127480" y="4253040"/>
            <a:ext cx="112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122800" y="37501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7861320" y="3070080"/>
            <a:ext cx="627120" cy="855720"/>
          </a:xfrm>
          <a:custGeom>
            <a:avLst/>
            <a:gdLst>
              <a:gd name="textAreaLeft" fmla="*/ 83880 w 627120"/>
              <a:gd name="textAreaRight" fmla="*/ 543240 w 627120"/>
              <a:gd name="textAreaTop" fmla="*/ 149760 h 855720"/>
              <a:gd name="textAreaBottom" fmla="*/ 6206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2535120" y="629928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06680" y="5776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123440" y="5765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2720160" y="58806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201600" y="4846680"/>
            <a:ext cx="441360" cy="1249200"/>
          </a:xfrm>
          <a:custGeom>
            <a:avLst/>
            <a:gdLst>
              <a:gd name="textAreaLeft" fmla="*/ 59040 w 441360"/>
              <a:gd name="textAreaRight" fmla="*/ 382320 w 441360"/>
              <a:gd name="textAreaTop" fmla="*/ 218520 h 1249200"/>
              <a:gd name="textAreaBottom" fmla="*/ 905760 h 124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5334120" y="243828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66652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828800"/>
          <a:ext cx="1905120" cy="169236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C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, C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B, C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429000" y="1219320"/>
          <a:ext cx="1752480" cy="203040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D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943600" y="1371600"/>
          <a:ext cx="1752480" cy="169236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553080" y="3581280"/>
          <a:ext cx="1143000" cy="23688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200400" y="3429000"/>
          <a:ext cx="1752480" cy="217656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B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3862440"/>
          <a:ext cx="1752480" cy="155412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A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143000" y="5867280"/>
          <a:ext cx="1143000" cy="68580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572000" y="5867280"/>
          <a:ext cx="1752480" cy="62244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tem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{B, C, 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Text Box 167"/>
          <p:cNvSpPr/>
          <p:nvPr/>
        </p:nvSpPr>
        <p:spPr>
          <a:xfrm>
            <a:off x="1828800" y="114300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riment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4" descr="t3"/>
          <p:cNvPicPr/>
          <p:nvPr/>
        </p:nvPicPr>
        <p:blipFill>
          <a:blip r:embed="rId1"/>
          <a:stretch/>
        </p:blipFill>
        <p:spPr>
          <a:xfrm>
            <a:off x="1258920" y="1125360"/>
            <a:ext cx="734544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ixture contain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1000 informative emai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1000 alert emai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1000 normal emai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of the rules generated by the Association rule based classification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{Terrorist=y, Attack=y, Tense=past -&gt;{Suspicious=informative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{Threaten=y, Tense=fuiture } -&gt;Suspicious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ense=future, Terrorist = Y, Bomb =Y -&gt;{Suspicious 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ense=future, attack = Y, Blast =Y -&gt;{Suspicious =ale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nse=past, attack = Y, terrorist =Y -&gt;Suspicious=informative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c404"/>
                </a:solidFill>
                <a:latin typeface="Tahoma"/>
              </a:rPr>
              <a:t>{Tense=Past, Bomb=N, Terrorist=N, Blast=N-&gt; Email=Normal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tem sets are then used to generate Association Rules and one such rul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ense=past, Attack=Y, Bomb =Y -&gt; Email =Suspicious lnformatlve Em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ense=future, Attack= Y, Bomb =Y -&gt; Email =Suspicious alert E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Tense=future, Attack= N, Bomb =N -&gt;Email =Normal E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 this paper, we have employed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mining based classification approach to detect deceptive communication in email text as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informative or alert email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can find it that a simple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can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provide better classification resul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for suspicious email detectio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proposed work (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using keyword extraction an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considering key attribute calle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Tens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will be helpful for identifying the deceptive email and to get the information in time to </a:t>
            </a:r>
            <a:r>
              <a:rPr b="0" lang="en-US" sz="2600" spc="-1" strike="noStrike">
                <a:solidFill>
                  <a:srgbClr val="ff0000"/>
                </a:solidFill>
                <a:latin typeface="Tahoma"/>
              </a:rPr>
              <a:t>take effective ac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reduce the criminal activ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near future, we plan t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corporate other techniqu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ike different way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eature se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sing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ther metho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  <a:ea typeface="標楷體"/>
              </a:rPr>
              <a:t>Thank You !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about National security has increased significantly since the terrorist attacks 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911 200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A,FBI and other federal agencies are actively collecting domestic and foreign intelligence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event future attacks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ata mi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powerful tool that enables criminal investigators who may lack extensive training as data analyst to explore large databas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ickly and efficient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suspicious email and t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classification into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ler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d informative em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ert &amp; Informative E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1"/>
          <a:stretch/>
        </p:blipFill>
        <p:spPr>
          <a:xfrm>
            <a:off x="1187280" y="1844640"/>
            <a:ext cx="6782040" cy="464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5"/>
          <p:cNvPicPr/>
          <p:nvPr/>
        </p:nvPicPr>
        <p:blipFill>
          <a:blip r:embed="rId2"/>
          <a:stretch/>
        </p:blipFill>
        <p:spPr>
          <a:xfrm>
            <a:off x="1763640" y="449280"/>
            <a:ext cx="616284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2"/>
          <p:cNvPicPr/>
          <p:nvPr/>
        </p:nvPicPr>
        <p:blipFill>
          <a:blip r:embed="rId1"/>
          <a:stretch/>
        </p:blipFill>
        <p:spPr>
          <a:xfrm>
            <a:off x="1332000" y="2133720"/>
            <a:ext cx="680724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present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ociation r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i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priori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detect suspicious e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posed method is implemented using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hree par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mail Preprocess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Building the associativeclassifi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and vali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3"/>
          <p:cNvPicPr/>
          <p:nvPr/>
        </p:nvPicPr>
        <p:blipFill>
          <a:blip r:embed="rId1"/>
          <a:stretch/>
        </p:blipFill>
        <p:spPr>
          <a:xfrm>
            <a:off x="1116000" y="907920"/>
            <a:ext cx="77770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  E-Mail Pre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1 E-mail Data Extraction a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ext term extraction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op word removal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mm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2 Featur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Emotional:lifeless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anger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kill</a:t>
            </a:r>
            <a:r>
              <a:rPr b="0" lang="zh-TW" sz="3200" spc="-1" strike="noStrike">
                <a:solidFill>
                  <a:srgbClr val="04c404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04c404"/>
                </a:solidFill>
                <a:latin typeface="Tahoma"/>
              </a:rPr>
              <a:t>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ture:will,shall,may,might,sho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st:was,we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0:16:13Z</dcterms:created>
  <dc:creator>SWH</dc:creator>
  <dc:description/>
  <dc:language>en-US</dc:language>
  <cp:lastModifiedBy>Brigade</cp:lastModifiedBy>
  <dcterms:modified xsi:type="dcterms:W3CDTF">2012-02-07T11:00:26Z</dcterms:modified>
  <cp:revision>31</cp:revision>
  <dc:subject/>
  <dc:title>Association Rule Mining for Suspicious Email Detection: A Data Mining Approach </dc:title>
</cp:coreProperties>
</file>