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7F21C-22AD-4870-9A82-B8BECD517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D1DCB-6F71-465B-8261-F20C7656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69A2C-04EA-4AD4-8923-1504982FE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BEAE2-0778-4EA0-B054-5E6D7557D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A7B03-7A5F-4AC6-8338-E4CCE7298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04BF9-D779-4C48-82E0-14DE58C62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27618-BB85-4F06-A74E-2DA557F77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F6B8D-E464-484D-AE1C-ED00D873F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0C016-CDE5-4180-8AA3-2638D08D4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A18FE-78CC-42E4-942F-74EAF8FE4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4147F-EACC-4BED-84C0-525F52337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5570-B365-4F68-9B5B-256136C0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C11FD-0CD6-4E7D-BC0B-DECF9E17F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FC875-18F9-42F7-B655-2767D2F20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C8AB7-2518-42C8-B538-2CFE62273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807BE-E38F-4B9D-81DE-8671897FE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B59D5-63D2-4F2B-BF29-225C398CD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36248-8D72-4B13-A774-E7C1F47A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30F1D-385A-4953-8B42-068BB0956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B3542-255C-4607-8FC6-6F81080B1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7F8DA-C844-4A3E-9EC8-966771945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ADF3-7C91-470E-BD54-1D22A6341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9C644-D2CB-470D-9009-3079F4B37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8085-791D-483D-B240-D6EC6C475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101F-5F98-4644-A0D3-A1E2FBB0FBF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4DA8-A48E-490A-A42C-C7973F297D1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051920" y="975600"/>
            <a:ext cx="7344720" cy="10342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irline Reservation System</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st Estimation Model</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structive Cost Model, also known as the COCOMO model ,has been designed in 1981 by Barry Boehm, to give an estimate of number of man months it will take to develop a software produc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del also estimates the development schedule for the project in months and gives us a schedule distribution for all the major phases of a projec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st Estimation Model continued</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irline Reservation System project has an average complexity and fair flexibility. Thus, this project is classified as an organic project under the COCOMO model.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equations as they are modified for the organic projects are as follow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ort = 3.2 * EAF * (Size) ^ 1.05</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me = 2.5 * (Effort) ^ 0.38 wher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ort = number of staff months (P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F = effort adjustment facto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ze = number of lines of code for completed product. It is measures in KLOC (thousands of lines of cod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me = total number of month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st Estimation Model Continued</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ffort = 3.2 * 0.45 * 3.0 ^ 1.05 = 4.56 staff month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me = 2.5 * 4.56 ^ 0.38 = 4.44 months (development ti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ntt Chart</a:t>
            </a:r>
            <a:endParaRPr b="1" lang="en-US" sz="3600" spc="-1" strike="noStrike">
              <a:solidFill>
                <a:srgbClr val="006666"/>
              </a:solidFill>
              <a:latin typeface="Arial"/>
            </a:endParaRPr>
          </a:p>
        </p:txBody>
      </p:sp>
      <p:pic>
        <p:nvPicPr>
          <p:cNvPr id="121" name="Picture 4" descr="12"/>
          <p:cNvPicPr/>
          <p:nvPr/>
        </p:nvPicPr>
        <p:blipFill>
          <a:blip r:embed="rId1"/>
          <a:stretch/>
        </p:blipFill>
        <p:spPr>
          <a:xfrm>
            <a:off x="914400" y="2286000"/>
            <a:ext cx="82296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chitecture Elaboration Plan</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 of the Vision docu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 of the Project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Desig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ing Prototyp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Technical Insp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Requirements Specifi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2 Pres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lan (Phase 1)</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ion Document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ject Plan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Quality Assurance P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lan (Phase 2)</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tion items identified during phase 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ion Document 2.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Plan 2.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Requirement Specific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Desig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Pla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Technical Inspection – submitted by two individual MSE studen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ecutable Architecture Prototyp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2 Pres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lan (Phase 3)</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ion items identified during phase I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r Manu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onent Desig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 Cod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essment Evalu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Evalu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 Resul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enc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mal Technical Inspections - submitted by two individual MSE studen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nal MSE present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Overvie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Case Dia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stem Functional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st Estimation Mode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ntt Char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Elaboration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Overview</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objective of this project is to design and develop an Airline Reservation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ject is mainly intended for the customers, who use the airline websites to make reservations on fligh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system will be implemented in C#.NET and SQL Server 2000 will act as the databa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Overview continued</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motivation for the project comes from my interest to learn new technologies, like C# and ASP.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ing a web-based online application would give me more experience using these technolog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 design was also one of my major objective for choosing this projec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Case Diagrams</a:t>
            </a:r>
            <a:endParaRPr b="1" lang="en-US" sz="3600" spc="-1" strike="noStrike">
              <a:solidFill>
                <a:srgbClr val="006666"/>
              </a:solidFill>
              <a:latin typeface="Arial"/>
            </a:endParaRPr>
          </a:p>
        </p:txBody>
      </p:sp>
      <p:sp>
        <p:nvSpPr>
          <p:cNvPr id="10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 Use Case Diagram</a:t>
            </a:r>
            <a:endParaRPr b="0" lang="en-US" sz="2400" spc="-1" strike="noStrike">
              <a:solidFill>
                <a:srgbClr val="003366"/>
              </a:solidFill>
              <a:latin typeface="Arial"/>
            </a:endParaRPr>
          </a:p>
        </p:txBody>
      </p:sp>
      <p:pic>
        <p:nvPicPr>
          <p:cNvPr id="104" name="Picture 7" descr=""/>
          <p:cNvPicPr/>
          <p:nvPr/>
        </p:nvPicPr>
        <p:blipFill>
          <a:blip r:embed="rId1"/>
          <a:stretch/>
        </p:blipFill>
        <p:spPr>
          <a:xfrm>
            <a:off x="4114800" y="2286000"/>
            <a:ext cx="358128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Case Diagrams continued</a:t>
            </a:r>
            <a:endParaRPr b="1" lang="en-US" sz="3600" spc="-1" strike="noStrike">
              <a:solidFill>
                <a:srgbClr val="006666"/>
              </a:solidFill>
              <a:latin typeface="Arial"/>
            </a:endParaRPr>
          </a:p>
        </p:txBody>
      </p:sp>
      <p:sp>
        <p:nvSpPr>
          <p:cNvPr id="106"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ministrator Use Case Diagram</a:t>
            </a:r>
            <a:endParaRPr b="0" lang="en-US" sz="2400" spc="-1" strike="noStrike">
              <a:solidFill>
                <a:srgbClr val="003366"/>
              </a:solidFill>
              <a:latin typeface="Arial"/>
            </a:endParaRPr>
          </a:p>
        </p:txBody>
      </p:sp>
      <p:pic>
        <p:nvPicPr>
          <p:cNvPr id="107" name="Picture 6" descr=""/>
          <p:cNvPicPr/>
          <p:nvPr/>
        </p:nvPicPr>
        <p:blipFill>
          <a:blip r:embed="rId1"/>
          <a:stretch/>
        </p:blipFill>
        <p:spPr>
          <a:xfrm>
            <a:off x="457200" y="20574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stem Functionalit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unctionality for the project is divided among the users and administrators of the Airline Reservation Syste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 Function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ministrator Functionalit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r Functionality</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Registr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personal detail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n/Logou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ok fligh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ok motels, packages along with the airline ticket reserva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ct the airline compan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ew the booking instructions onlin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ministrator Functionality</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n/Logou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Delete/Modify customer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Delete/Modify flight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Delete/Modify package or motel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cellation of Reserva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Confi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dify details of web-pag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2:52:05Z</dcterms:created>
  <dc:creator>Srikaavya</dc:creator>
  <dc:description/>
  <dc:language>en-US</dc:language>
  <cp:lastModifiedBy>Brigade</cp:lastModifiedBy>
  <dcterms:modified xsi:type="dcterms:W3CDTF">2011-09-05T06:01:07Z</dcterms:modified>
  <cp:revision>6</cp:revision>
  <dc:subject/>
  <dc:title>Airline Reservation System</dc:title>
</cp:coreProperties>
</file>